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x &amp; Mingle Slide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will appear when next word in sequence is clic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ponding to students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“in the moment”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ually in the classroom when you may be under more pressure to respo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ing can v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ver delay feedback beyond when it would make a difference to stud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ou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 and questions always relate to major learning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en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pecific responses to student work and/or questions - is the student in the frame of mind to receive the feedbac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roup/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hen most of class misses same concept - teaching opport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nt a mix of problem-specific  feedback and general feedba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feedback from plenaries came in the form of a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cooperatively decide which two samples to use to respond in the moment; one additive sample, one multiplicative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(Sample #4) – multiplicative thinking (pag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(Sample #5) – addi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“Growing Succes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reflect on and record key learnings from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participants to the concept of the “Parking L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do our best to honor every conversation, but at times we will need to move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lingering questions, new questions, comments etc. - “park” them in the parking lot - we have set aside time at the end of the Proportional Reasoning breakouts to address as many as we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ut one idea on each sticky n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complete this task independ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e re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K-12 Proportional Reasoning Pages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of Multiplic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articipants complete reading and revise concept maps in a new 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construct Stages of Multiplicative Reasoning chart.  Each researcher is highlighted in a different colour.  Participants match one of each colour (three groups of researchers, three colours) together to find connections of stages between three resear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connections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 terms may vary slightly from researcher to researcher - essentially the sequence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e terms created by the teacher resear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igns on the wall - as we find student samples that reflect a stage - post it under that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completed “Stages of Multiplicative Reasoning” - participants will read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student work sample package to each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leftover package on document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eginning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lace each sample somewhere on the stag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mplete invite table groups to share their placements and rea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E433-994E-4D80-A90D-1FA578FF8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19E6-F372-4582-BAB5-78F0B02D2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FF1A-1501-435B-93C9-0A62C48C0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80A4-D5B4-4D57-825D-678CA05D1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3388-9E54-46CA-978C-E69B5D39E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F936-7A51-4BDC-A17D-B3936CA2D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40EA-FDEB-43B4-9F96-D1197054B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7EBA-4456-489E-ACA7-C1AF3EE94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FC1F-0940-4D38-B3FD-FFF4496B2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516D-3142-4768-B75C-1306F3A08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7C06-15D1-4B2F-BE50-92C2D9057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96FA-1C34-4E52-8196-775FA39E9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D5A-B190-4A0B-9C82-52EB6B0894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2836-5B35-485C-9318-AD3D1AB247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28195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at is the Foc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Feedback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viding feedback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22720" y="144000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90528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about the feedback provided in the plenary ses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able groups, brainstorm “In The Moment” feedback for the following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# 4 - example of multiplica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#5 - example of addi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eedback for the student work sample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deas recorded at your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ignificant point(s) will you share with the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lvl="2" marL="1360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60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 understanding of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student work and identify where it belongs on the multiplicative thinking continu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ly practice providing “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moment</a:t>
            </a:r>
            <a:r>
              <a:rPr b="0" lang="en-CA" sz="2400" spc="-1" strike="noStrike">
                <a:solidFill>
                  <a:srgbClr val="000000"/>
                </a:solidFill>
                <a:latin typeface="Lucida Grande"/>
              </a:rPr>
              <a:t>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dback to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1360" y="50472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4479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Proportional Reas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 on sticky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dea will go on a separate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table, begin to organize your notes to create a “Concept M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concepts, usually enclosed in circles or boxes of some type, and relationships between concepts indicated by a connecting line linking two concepts. Words on the line, referred to as linking words or linking phrases, specify the relationship between the two conce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Read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12 Proportional Reasoning (pages 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of Proportion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new colour, revise your concept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deliberate use of multiplicative thinking to compare and predict.  (Small, Aug. 15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rtional reasoning is a form of mathematical reasoning that involves a sense of covariation, multiple comparisons, and the ability to remember and process several piec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rtional Reasoning involves reasoning about the holistic relationship between two rational expressions such as rates, ratios, quotients, and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 algn="r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cerpt from Lesh, Post, and Beh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icative Ma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struct Stages of Multiplicative Reasoning cha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researcher (group)is highlighted in a different colou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one of each colour together to find connections between three resear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ample student responses for Six-Dinner 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ight you place them on the Stages of Multiplicative Thinking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92776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d has 6 owners who all don't know about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he eats 6 dinners each n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many dinners would he eat in a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7T02:17:03Z</dcterms:modified>
  <cp:revision>116</cp:revision>
  <dc:subject/>
  <dc:title>&lt;Title&gt;</dc:title>
</cp:coreProperties>
</file>